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png" ContentType="image/png"/>
  <Override PartName="/ppt/media/image19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28.jpeg" ContentType="image/jpeg"/>
  <Override PartName="/ppt/media/image20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5204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49360" y="685440"/>
            <a:ext cx="57592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513A-B2C8-4290-906E-738D7316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186-1E06-474B-B3E5-CF638223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549360" y="685800"/>
            <a:ext cx="57592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E51-4E67-4E82-818F-76846399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736-236D-49B6-9DB1-7AA0248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24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9B2-501A-49ED-90F4-793B26E8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04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7360" y="160020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04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7360" y="3964320"/>
            <a:ext cx="3338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86C-A0DA-4C3C-B1F0-04F341B9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4EA-6BCB-48F9-AFF0-BE85569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917-B02D-4E10-9778-F6698E1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AA5-4B07-4FFF-ADBD-7372D5A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9A9-D825-4D52-B748-C7610D1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E19-0E7B-48F8-9690-D3BE729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D22-F86E-442D-A467-BAE423D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240" y="396432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404-5628-466F-BF1F-B04D8E0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240" y="1600200"/>
            <a:ext cx="505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3F6-98B2-457B-930A-A3D0AD1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244920"/>
            <a:ext cx="364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60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5BE3-7594-467A-9755-EAC41959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hyperlink" Target="http://www.ent-hn.com/teach/cai/hearing/disease/index.htm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ent-hn.com/teach/cai/hearing/test/index.htm" TargetMode="External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610080" y="3357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护我们的耳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738520" y="10000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全国爱耳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u=1101347744,2814188760&amp;fm=23&amp;gp=0"/>
          <p:cNvPicPr/>
          <p:nvPr/>
        </p:nvPicPr>
        <p:blipFill>
          <a:blip r:embed="rId1"/>
          <a:stretch/>
        </p:blipFill>
        <p:spPr>
          <a:xfrm>
            <a:off x="225360" y="3789360"/>
            <a:ext cx="356544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599040" y="29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链接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394520" y="1268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某些疾病和药物可能引起耳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038400" y="28526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流行性脑脊髓膜炎，猩红热，流行性腮腺炎等传染病有可能损害耳朵的功能，导致耳聋；一些毒副作用较大的药物如庆大霉素，卡那霉素，链霉素等也可 对耳朵造成损害。所以同学们千万不要乱吃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717640" y="62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践行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u=3540754624,3012845930&amp;fm=23&amp;gp=0"/>
          <p:cNvPicPr/>
          <p:nvPr/>
        </p:nvPicPr>
        <p:blipFill>
          <a:blip r:embed="rId1"/>
          <a:stretch/>
        </p:blipFill>
        <p:spPr>
          <a:xfrm>
            <a:off x="679320" y="260280"/>
            <a:ext cx="1816200" cy="1297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988920" y="1528920"/>
            <a:ext cx="13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说一说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3000" y="1628640"/>
            <a:ext cx="35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进水怎么办？         擤鼻涕应该怎么进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进虫或异物怎么办？     发现耳痛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060920" y="278136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判断对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426280" y="2708280"/>
            <a:ext cx="9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只有听声音的功能。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冬天到户外要带耳罩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耳朵里进异物用牙签弄出来。（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明总爱用水枪射别人的耳朵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丁每次放音乐，音量都开的很大。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219680" y="515772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做一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402000" y="5084640"/>
            <a:ext cx="51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每年的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日是“全国爱耳日”</a:t>
            </a:r>
            <a:r>
              <a:rPr b="0" lang="en-US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请同学们合办一期板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u=3540754624,3012845930&amp;fm=23&amp;gp=0"/>
          <p:cNvPicPr/>
          <p:nvPr/>
        </p:nvPicPr>
        <p:blipFill>
          <a:blip r:embed="rId1"/>
          <a:stretch/>
        </p:blipFill>
        <p:spPr>
          <a:xfrm>
            <a:off x="861840" y="260280"/>
            <a:ext cx="1422720" cy="1366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0080" y="692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成长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52560" y="1773360"/>
          <a:ext cx="9615600" cy="2519280"/>
        </p:xfrm>
        <a:graphic>
          <a:graphicData uri="http://schemas.openxmlformats.org/drawingml/2006/table">
            <a:tbl>
              <a:tblPr/>
              <a:tblGrid>
                <a:gridCol w="5261040"/>
                <a:gridCol w="2176200"/>
                <a:gridCol w="2178360"/>
              </a:tblGrid>
              <a:tr h="45972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我们应该这样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做到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没做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不用尖锐的器物掏耳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有噪声时赶紧捂住耳朵张开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耳痛耳鸣及时去看医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52560" y="4292640"/>
          <a:ext cx="9615600" cy="936720"/>
        </p:xfrm>
        <a:graphic>
          <a:graphicData uri="http://schemas.openxmlformats.org/drawingml/2006/table">
            <a:tbl>
              <a:tblPr/>
              <a:tblGrid>
                <a:gridCol w="5261040"/>
                <a:gridCol w="2176200"/>
                <a:gridCol w="2178360"/>
              </a:tblGrid>
              <a:tr h="936720"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两个鼻孔交替擤鼻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0" rIns="1152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13"/>
          <p:cNvSpPr/>
          <p:nvPr/>
        </p:nvSpPr>
        <p:spPr>
          <a:xfrm>
            <a:off x="1114920" y="5738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到了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4" descr="u=1685469051,376471613&amp;fm=21&amp;gp=0"/>
          <p:cNvPicPr/>
          <p:nvPr/>
        </p:nvPicPr>
        <p:blipFill>
          <a:blip r:embed="rId2"/>
          <a:stretch/>
        </p:blipFill>
        <p:spPr>
          <a:xfrm>
            <a:off x="2403360" y="5661000"/>
            <a:ext cx="782640" cy="50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5"/>
          <p:cNvSpPr/>
          <p:nvPr/>
        </p:nvSpPr>
        <p:spPr>
          <a:xfrm>
            <a:off x="4951800" y="580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做到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6" descr="u=1081125207,1044466652&amp;fm=23&amp;gp=0"/>
          <p:cNvPicPr/>
          <p:nvPr/>
        </p:nvPicPr>
        <p:blipFill>
          <a:blip r:embed="rId3"/>
          <a:stretch/>
        </p:blipFill>
        <p:spPr>
          <a:xfrm>
            <a:off x="6213600" y="5734080"/>
            <a:ext cx="907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748960" y="380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导航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u=3540754624,3012845930&amp;fm=23&amp;gp=0"/>
          <p:cNvPicPr/>
          <p:nvPr/>
        </p:nvPicPr>
        <p:blipFill>
          <a:blip r:embed="rId1"/>
          <a:stretch/>
        </p:blipFill>
        <p:spPr>
          <a:xfrm>
            <a:off x="1406520" y="189000"/>
            <a:ext cx="1100160" cy="1224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365920" y="1601640"/>
            <a:ext cx="35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你知道耳朵有哪些功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我们是怎样听到声音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生活中我们该怎样保护自己的耳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t019071323881198784"/>
          <p:cNvPicPr/>
          <p:nvPr/>
        </p:nvPicPr>
        <p:blipFill>
          <a:blip r:embed="rId2"/>
          <a:stretch/>
        </p:blipFill>
        <p:spPr>
          <a:xfrm>
            <a:off x="1133640" y="3284640"/>
            <a:ext cx="62607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耳和听觉"/>
          <p:cNvPicPr/>
          <p:nvPr/>
        </p:nvPicPr>
        <p:blipFill>
          <a:blip r:embed="rId1"/>
          <a:stretch/>
        </p:blipFill>
        <p:spPr>
          <a:xfrm>
            <a:off x="0" y="0"/>
            <a:ext cx="1152036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0296360" y="-100080"/>
            <a:ext cx="122400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观察与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3068640"/>
            <a:ext cx="11522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假如人失去听觉，这四个场面各会出现什么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495440" y="1130400"/>
            <a:ext cx="95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耳朵不仅能听到各种声音，而且还能辨别出方向和保持身体平衡。声音通过耳廓，外耳道传入中耳，再  传到内耳，由听神经传入大脑，产生听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018f22aace052ce9ed"/>
          <p:cNvPicPr/>
          <p:nvPr/>
        </p:nvPicPr>
        <p:blipFill>
          <a:blip r:embed="rId1"/>
          <a:stretch/>
        </p:blipFill>
        <p:spPr>
          <a:xfrm>
            <a:off x="316080" y="3809880"/>
            <a:ext cx="5119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674800" y="520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让我们看看耳朵的内部结构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t018f22aace052ce9ed"/>
          <p:cNvPicPr/>
          <p:nvPr/>
        </p:nvPicPr>
        <p:blipFill>
          <a:blip r:embed="rId1"/>
          <a:stretch/>
        </p:blipFill>
        <p:spPr>
          <a:xfrm>
            <a:off x="7618320" y="189000"/>
            <a:ext cx="3902040" cy="23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t010d025f1a220da010"/>
          <p:cNvPicPr/>
          <p:nvPr/>
        </p:nvPicPr>
        <p:blipFill>
          <a:blip r:embed="rId2"/>
          <a:stretch/>
        </p:blipFill>
        <p:spPr>
          <a:xfrm>
            <a:off x="1314360" y="2924280"/>
            <a:ext cx="8345520" cy="286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t01860d0f392989244d"/>
          <p:cNvPicPr/>
          <p:nvPr/>
        </p:nvPicPr>
        <p:blipFill>
          <a:blip r:embed="rId3"/>
          <a:stretch/>
        </p:blipFill>
        <p:spPr>
          <a:xfrm>
            <a:off x="1133640" y="1700280"/>
            <a:ext cx="1180800" cy="711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/>
          <p:cNvSpPr/>
          <p:nvPr/>
        </p:nvSpPr>
        <p:spPr>
          <a:xfrm rot="1402200">
            <a:off x="2665080" y="2238480"/>
            <a:ext cx="1905120" cy="519120"/>
          </a:xfrm>
          <a:prstGeom prst="leftArrow">
            <a:avLst>
              <a:gd name="adj1" fmla="val 50000"/>
              <a:gd name="adj2" fmla="val 728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t0104cb96c5b37a60e2"/>
          <p:cNvPicPr/>
          <p:nvPr/>
        </p:nvPicPr>
        <p:blipFill>
          <a:blip r:embed="rId4"/>
          <a:stretch/>
        </p:blipFill>
        <p:spPr>
          <a:xfrm>
            <a:off x="4035600" y="5805360"/>
            <a:ext cx="1271520" cy="8733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/>
          <p:cNvSpPr/>
          <p:nvPr/>
        </p:nvSpPr>
        <p:spPr>
          <a:xfrm flipH="1" rot="5363400">
            <a:off x="5793840" y="5436360"/>
            <a:ext cx="652680" cy="1087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t010fec38a2ac767c94"/>
          <p:cNvPicPr/>
          <p:nvPr/>
        </p:nvPicPr>
        <p:blipFill>
          <a:blip r:embed="rId5"/>
          <a:stretch/>
        </p:blipFill>
        <p:spPr>
          <a:xfrm>
            <a:off x="8572680" y="1844640"/>
            <a:ext cx="266832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4"/>
          <p:cNvSpPr/>
          <p:nvPr/>
        </p:nvSpPr>
        <p:spPr>
          <a:xfrm rot="10800000">
            <a:off x="8844120" y="4221000"/>
            <a:ext cx="1180800" cy="9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667560" y="5300640"/>
            <a:ext cx="12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咽鼓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854520" y="1268280"/>
            <a:ext cx="44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咽鼓管有保持鼓膜两侧压力平衡的作用，如果鼻咽部感染波及中耳，可导致中耳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" y="-360"/>
            <a:ext cx="103680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耳的结构和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033880" y="1341360"/>
            <a:ext cx="39927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402000" y="5084640"/>
            <a:ext cx="48085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402000" y="4653000"/>
            <a:ext cx="4264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3672000" y="4221000"/>
            <a:ext cx="30859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133640" y="5157720"/>
            <a:ext cx="6346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图Ⅳ-51 耳的基本结构和功能"/>
          <p:cNvPicPr/>
          <p:nvPr/>
        </p:nvPicPr>
        <p:blipFill>
          <a:blip r:embed="rId1"/>
          <a:stretch/>
        </p:blipFill>
        <p:spPr>
          <a:xfrm>
            <a:off x="0" y="1089000"/>
            <a:ext cx="11520360" cy="43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1989000"/>
            <a:ext cx="167796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0" y="3141720"/>
            <a:ext cx="7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679320" y="2997360"/>
            <a:ext cx="90720" cy="1511280"/>
          </a:xfrm>
          <a:custGeom>
            <a:avLst/>
            <a:gdLst>
              <a:gd name="textAreaLeft" fmla="*/ 26640 w 90720"/>
              <a:gd name="textAreaRight" fmla="*/ 91080 w 90720"/>
              <a:gd name="textAreaTop" fmla="*/ 79200 h 1511280"/>
              <a:gd name="textAreaBottom" fmla="*/ 14320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4"/>
                  <a:pt x="0" y="2268"/>
                </a:cubicBezTo>
                <a:lnTo>
                  <a:pt x="0" y="19332"/>
                </a:lnTo>
                <a:cubicBezTo>
                  <a:pt x="0" y="2046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816120" y="2349360"/>
            <a:ext cx="76968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70040" y="3716280"/>
            <a:ext cx="81576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耳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770040" y="1989000"/>
            <a:ext cx="27144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92160" y="907920"/>
            <a:ext cx="1585800" cy="58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收集声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90400" y="5802480"/>
            <a:ext cx="2632320" cy="58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传送声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 flipH="1" flipV="1">
            <a:off x="1314360" y="5157360"/>
            <a:ext cx="36360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"/>
          <p:cNvSpPr/>
          <p:nvPr/>
        </p:nvSpPr>
        <p:spPr>
          <a:xfrm>
            <a:off x="3854520" y="3645000"/>
            <a:ext cx="381168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670720" y="5516640"/>
            <a:ext cx="15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579920" y="3730680"/>
            <a:ext cx="7272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5942160" y="3530520"/>
            <a:ext cx="72540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小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6757920" y="3789360"/>
            <a:ext cx="7272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鼓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5124600" y="4797360"/>
            <a:ext cx="12715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6396120" y="5084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 flipH="1">
            <a:off x="6395760" y="4869000"/>
            <a:ext cx="7239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9209160" y="1125360"/>
            <a:ext cx="2311200" cy="22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8118360" y="907920"/>
            <a:ext cx="1270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10480680" y="156996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9067680" y="2911320"/>
            <a:ext cx="13194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9026640" y="2335320"/>
            <a:ext cx="13176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前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939080" y="1039680"/>
            <a:ext cx="2087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规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10024920" y="1341360"/>
            <a:ext cx="6336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10296360" y="2133720"/>
            <a:ext cx="3621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H="1">
            <a:off x="10387080" y="2133720"/>
            <a:ext cx="27144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9026640" y="3933720"/>
            <a:ext cx="19954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8934480" y="393372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咽鼓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8210520" y="4508640"/>
            <a:ext cx="3084480" cy="792000"/>
          </a:xfrm>
          <a:prstGeom prst="upArrowCallout">
            <a:avLst>
              <a:gd name="adj1" fmla="val 13235"/>
              <a:gd name="adj2" fmla="val 23854"/>
              <a:gd name="adj3" fmla="val 9338"/>
              <a:gd name="adj4" fmla="val 6666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鼓室通向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鼓膜"/>
          <p:cNvPicPr/>
          <p:nvPr/>
        </p:nvPicPr>
        <p:blipFill>
          <a:blip r:embed="rId1"/>
          <a:stretch/>
        </p:blipFill>
        <p:spPr>
          <a:xfrm>
            <a:off x="0" y="0"/>
            <a:ext cx="1152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u=401073708,4263025509&amp;fm=21&amp;gp=0"/>
          <p:cNvPicPr/>
          <p:nvPr/>
        </p:nvPicPr>
        <p:blipFill>
          <a:blip r:embed="rId1"/>
          <a:stretch/>
        </p:blipFill>
        <p:spPr>
          <a:xfrm>
            <a:off x="9434520" y="0"/>
            <a:ext cx="2085840" cy="2959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90920" y="358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耳朵很重要，我们要好好保护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61960" y="13906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遇到雷声燃放鞭炮赶紧张口，掩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762240" y="1341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不用硬物挖耳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930240" y="3500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耳朵进水单腿跳着控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232240" y="3500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两个鼻孔交替擤鼻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676760" y="5013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耳鸣，耳痛，进异物要去看医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26200" y="494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微软雅黑"/>
              </a:rPr>
              <a:t>不要长时间戴耳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t014ea2da2612694de4"/>
          <p:cNvPicPr/>
          <p:nvPr/>
        </p:nvPicPr>
        <p:blipFill>
          <a:blip r:embed="rId2"/>
          <a:stretch/>
        </p:blipFill>
        <p:spPr>
          <a:xfrm>
            <a:off x="770040" y="1989000"/>
            <a:ext cx="244944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t0168bc8125ff742851"/>
          <p:cNvPicPr/>
          <p:nvPr/>
        </p:nvPicPr>
        <p:blipFill>
          <a:blip r:embed="rId3"/>
          <a:stretch/>
        </p:blipFill>
        <p:spPr>
          <a:xfrm>
            <a:off x="6757920" y="1989000"/>
            <a:ext cx="2151000" cy="135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t017f563fda6a6d6a59"/>
          <p:cNvPicPr/>
          <p:nvPr/>
        </p:nvPicPr>
        <p:blipFill>
          <a:blip r:embed="rId4"/>
          <a:stretch/>
        </p:blipFill>
        <p:spPr>
          <a:xfrm>
            <a:off x="498600" y="3809880"/>
            <a:ext cx="2178000" cy="1203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t01f9663029dc123cc7"/>
          <p:cNvPicPr/>
          <p:nvPr/>
        </p:nvPicPr>
        <p:blipFill>
          <a:blip r:embed="rId5"/>
          <a:stretch/>
        </p:blipFill>
        <p:spPr>
          <a:xfrm>
            <a:off x="5216400" y="3860640"/>
            <a:ext cx="2032200" cy="10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t010a1a76e98ea33234"/>
          <p:cNvPicPr/>
          <p:nvPr/>
        </p:nvPicPr>
        <p:blipFill>
          <a:blip r:embed="rId6"/>
          <a:stretch/>
        </p:blipFill>
        <p:spPr>
          <a:xfrm>
            <a:off x="861840" y="5445000"/>
            <a:ext cx="199584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t0160b8c97550df5e37"/>
          <p:cNvPicPr/>
          <p:nvPr/>
        </p:nvPicPr>
        <p:blipFill>
          <a:blip r:embed="rId7"/>
          <a:stretch/>
        </p:blipFill>
        <p:spPr>
          <a:xfrm>
            <a:off x="5124600" y="5373720"/>
            <a:ext cx="2360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6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05_www"/>
          <p:cNvPicPr/>
          <p:nvPr/>
        </p:nvPicPr>
        <p:blipFill>
          <a:blip r:embed="rId1"/>
          <a:stretch/>
        </p:blipFill>
        <p:spPr>
          <a:xfrm>
            <a:off x="-5241960" y="-1903320"/>
            <a:ext cx="122400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_logo"/>
          <p:cNvPicPr/>
          <p:nvPr/>
        </p:nvPicPr>
        <p:blipFill>
          <a:blip r:embed="rId2"/>
          <a:stretch/>
        </p:blipFill>
        <p:spPr>
          <a:xfrm>
            <a:off x="-5030640" y="-1857240"/>
            <a:ext cx="288108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05_nav6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5170320" y="6975360"/>
            <a:ext cx="2592360" cy="26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005_nav7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5170320" y="8166240"/>
            <a:ext cx="2592360" cy="26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05_gaishu"/>
          <p:cNvPicPr/>
          <p:nvPr/>
        </p:nvPicPr>
        <p:blipFill>
          <a:blip r:embed="rId7"/>
          <a:stretch/>
        </p:blipFill>
        <p:spPr>
          <a:xfrm>
            <a:off x="6489720" y="-1857240"/>
            <a:ext cx="2881440" cy="342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360360" y="1471680"/>
            <a:ext cx="1065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久以来，人们对耳聋的发病情况认识和重视不够。其实，耳聋的发病率很高，耳聋是影响人类生活质量最主要的问题之一。据世界卫生组织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O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球听力残疾人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，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增加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。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中增加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！在我国，据估计有听力障碍的残疾人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，占残疾人总数的首位，其中聋哑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，七岁以下聋儿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。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于药物、遗传、感染、疾病、环境、噪音污染、意外事故等原因，每年新增聋儿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万余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据人口调查统计，每年出生的新生儿中，重度听力障碍者约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据估计，不同程度听力障碍者在人群中的比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上者高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总之，如何降低聋病在人群中的发病率和及时发现、早期治疗，是全社会的共同责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5951520" y="399960"/>
            <a:ext cx="384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与你分享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431640" y="571680"/>
            <a:ext cx="1536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fff8ed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资料</a:t>
            </a:r>
            <a:endParaRPr b="1" i="1" lang="en-US" sz="4800" spc="1" strike="noStrike">
              <a:ln w="9360">
                <a:solidFill>
                  <a:srgbClr val="fff8ed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1:44:50Z</dcterms:created>
  <dc:creator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; 微软用户</dc:creator>
  <dc:description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description>
  <cp:keywords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cp:keywords>
  <dc:language>en-US</dc:language>
  <cp:lastModifiedBy>jl</cp:lastModifiedBy>
  <dcterms:modified xsi:type="dcterms:W3CDTF">2017-02-16T18:08:52Z</dcterms:modified>
  <cp:revision>9</cp:revision>
  <dc:subject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subject>
  <dc:title>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zhan.com】~中小学ppt课件、试卷练习、主题班会ppt免费下载站~【课件站www.kj</dc:title>
</cp:coreProperties>
</file>